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1C78C-ADE1-47D6-B50C-B06032129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CD2A-0893-4BF5-BBCF-26643072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0453D-EC7D-40CF-AC61-E6DDC891C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B038-5999-4092-8924-54FC34043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35912-81CD-44FE-9223-3ABE2C976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E4350-E9F7-4B47-9E4F-2BB2B66F1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8A810-69D4-4ED5-BB7F-042701397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6A19-9EF9-4182-84E4-7A7ACFF94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361B-2595-48CA-A0B1-A22C6CF47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499A-BC10-4674-BB7B-2B32B203A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78AEB-6DB5-4902-9544-E42525967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3392C-33BB-432E-A7D6-90C8F5599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90F8E-1DF3-44FE-B939-315A607057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EFI-logo-final-color"/>
          <p:cNvPicPr/>
          <p:nvPr/>
        </p:nvPicPr>
        <p:blipFill>
          <a:blip r:embed="rId1"/>
          <a:stretch/>
        </p:blipFill>
        <p:spPr>
          <a:xfrm>
            <a:off x="1981080" y="1143000"/>
            <a:ext cx="5181840" cy="518148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027"/>
          <p:cNvSpPr/>
          <p:nvPr/>
        </p:nvSpPr>
        <p:spPr>
          <a:xfrm>
            <a:off x="805680" y="1494000"/>
            <a:ext cx="7541640" cy="39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Title Here (Helvetica, Bold, 32 p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Core/Bridging Project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r Name He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bf0206"/>
                </a:solidFill>
                <a:latin typeface="Arial"/>
              </a:rPr>
              <a:t>Enzyme Function Initiative (EFI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y Committee Mee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ovember 30, 20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EFI-logo-final-color"/>
          <p:cNvPicPr/>
          <p:nvPr/>
        </p:nvPicPr>
        <p:blipFill>
          <a:blip r:embed="rId1"/>
          <a:stretch/>
        </p:blipFill>
        <p:spPr>
          <a:xfrm>
            <a:off x="76320" y="190440"/>
            <a:ext cx="547560" cy="5479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imark_bold"/>
          <p:cNvPicPr/>
          <p:nvPr/>
        </p:nvPicPr>
        <p:blipFill>
          <a:blip r:embed="rId2"/>
          <a:stretch/>
        </p:blipFill>
        <p:spPr>
          <a:xfrm>
            <a:off x="8736120" y="235080"/>
            <a:ext cx="338040" cy="438120"/>
          </a:xfrm>
          <a:prstGeom prst="rect">
            <a:avLst/>
          </a:prstGeom>
          <a:ln w="0">
            <a:noFill/>
          </a:ln>
        </p:spPr>
      </p:pic>
      <p:cxnSp>
        <p:nvCxnSpPr>
          <p:cNvPr id="45" name="Straight Arrow Connector 6"/>
          <p:cNvCxnSpPr/>
          <p:nvPr/>
        </p:nvCxnSpPr>
        <p:spPr>
          <a:xfrm flipV="1">
            <a:off x="8076240" y="837720"/>
            <a:ext cx="5338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6" name="TextBox 7"/>
          <p:cNvSpPr/>
          <p:nvPr/>
        </p:nvSpPr>
        <p:spPr>
          <a:xfrm>
            <a:off x="6477120" y="1371600"/>
            <a:ext cx="2361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our university logo he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032"/>
          <p:cNvSpPr/>
          <p:nvPr/>
        </p:nvSpPr>
        <p:spPr>
          <a:xfrm>
            <a:off x="1420560" y="228600"/>
            <a:ext cx="636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Your slide title here (Helvetica, Bold, 24 p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8T17:03:55Z</dcterms:created>
  <dc:creator>John Gerlt</dc:creator>
  <dc:description/>
  <dc:language>en-US</dc:language>
  <cp:lastModifiedBy>John Gerlt</cp:lastModifiedBy>
  <dcterms:modified xsi:type="dcterms:W3CDTF">2011-10-09T14:37:13Z</dcterms:modified>
  <cp:revision>10</cp:revision>
  <dc:subject/>
  <dc:title>PowerPoint Presentation</dc:title>
</cp:coreProperties>
</file>